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3B8-C212-4310-BD8F-755B309B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277-A4D9-498B-91A8-54EB49EA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30F7-C8A4-441D-8380-B3570C55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FAE-F4BD-4266-B41C-F062E02F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EE1-FB57-4908-8FA0-CF27A1A2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8B13-5960-4200-A4FF-819CD5D2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047-4E72-4FAB-9000-10BD5FD6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079-DFE1-4ED4-9F6E-CB463198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5C32-77F3-4E42-BB1D-11700C9F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436-9D94-402D-8CB2-4FA6BBC5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2B5-EB4F-4F31-8D6E-2D47AB05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33C-A786-44A6-B583-7393A14D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EAA6-3671-489C-80F1-DA26DDF1A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fullissue.com/wp-content/uploads/Vladimir-Lenin.jpg&amp;imgrefurl=http://www.fullissue.com/index.php/vladimir-lenin-biography-1870%25E2%2580%25931924.html&amp;usg=__F0xk17O-KlyIVHwG2IdGRMGFv_Y=&amp;h=446&amp;w=320&amp;sz=24&amp;hl=en&amp;start=4&amp;zoom=1&amp;itbs=1&amp;tbnid=lqmKSGM_Z6UZeM:&amp;tbnh=127&amp;tbnw=91&amp;prev=/images%3Fq%3Dvladimir%2Blenin%26hl%3Den%26gbv%3D2%26tbs%3Disch: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40000"/>
                </a:solidFill>
                <a:latin typeface="comic"/>
              </a:rPr>
              <a:t>Russia history 1918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By: S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     </a:t>
            </a: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Bi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      </a:t>
            </a: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O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f21"/>
            </a:gs>
            <a:gs pos="100000">
              <a:srgbClr val="6675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of soivet un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vember 1917 the russian goverrment was overth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Vladimir Lenin</a:t>
            </a: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dopted the government of</a:t>
            </a: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743280"/>
            <a:ext cx="2590560" cy="311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4669920"/>
            <a:ext cx="822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941- grermans invade soivet Late 1940’s soivets gain control of Easter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u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942-1943- soivets prevent capture of Stalingr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945- soivets capture Berl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4267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d war was from 1945-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 union competed against the U.S.A. for nuclear power and a man to the m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8:32:43Z</dcterms:created>
  <dc:creator> </dc:creator>
  <dc:description/>
  <dc:language>en-US</dc:language>
  <cp:lastModifiedBy> </cp:lastModifiedBy>
  <dcterms:modified xsi:type="dcterms:W3CDTF">2010-12-14T17:21:55Z</dcterms:modified>
  <cp:revision>4</cp:revision>
  <dc:subject/>
  <dc:title>Russia history 1918- 2010</dc:title>
</cp:coreProperties>
</file>